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2C6D-C619-4FF1-BF68-267D124D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9023-C41C-4BE6-B892-F1965786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8C35-A13C-438E-92D4-283DAE21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74D8-68B3-4422-9710-1E58BCC7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BA5A-C71B-48D1-AD64-8D081244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64BF-0EC9-472B-B739-F86028E3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BA9C-3FC1-4907-9716-6BB59FAC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6A3E-438F-466D-84C6-4212561F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B65D-C66E-42B4-8849-9EC51349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16CF-45E4-4648-A6C7-D723982F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7E82-E871-41CB-A77D-13493FB3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0787-E0F7-48BA-90B9-06C755A0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8AAE-D4F6-4C2D-B8D7-08E018AB47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运动会报名系统介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2971800"/>
            <a:ext cx="6543720" cy="3724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920" y="380880"/>
            <a:ext cx="7924680" cy="1981440"/>
          </a:xfrm>
          <a:prstGeom prst="wedgeRectCallout">
            <a:avLst>
              <a:gd name="adj1" fmla="val -14402"/>
              <a:gd name="adj2" fmla="val 136699"/>
            </a:avLst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对于接力等集体项目，要参加几个组别的接力项目，就用单位简称在姓名栏注册几个记录，但号码不得重复。（不管一个组别中有几个接力项目，一个组别只注册一个单位简称即可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运动员项目报名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主窗口点击“运动员项目报名”钮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新打开的窗口中，进行运动员项目报名。其操作方法与随队人员注册基本相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注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果某运动员项目报名后，又要修改其注册的号码、姓名、性别、组别或测试标识，必须先在本窗把该运动员的项目报名记录全部删除，才可在“注册窗口”进行修改。修改完后，再在本窗口重新报名。否则，系统禁止修改注册参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②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果某运动员项目报名后，又要取消该运动员的参赛资格，必须先在本窗口把该运动员的项目报名记录全部删除，才可在“注册窗口”删除该运动员。否则，系统禁止删除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运动员项目报名界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524400"/>
            <a:ext cx="5905440" cy="3333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019920" y="4038480"/>
            <a:ext cx="2666880" cy="2667240"/>
          </a:xfrm>
          <a:prstGeom prst="wedgeRectCallout">
            <a:avLst>
              <a:gd name="adj1" fmla="val -71250"/>
              <a:gd name="adj2" fmla="val -27620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第一步：在主窗口点击“运动员项目报名”钮在新打开的窗口中，进行运动员项目报名。其操作方法与随队人员注册基本相同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914400"/>
            <a:ext cx="4876920" cy="2819520"/>
          </a:xfrm>
          <a:prstGeom prst="wedgeRectCallout">
            <a:avLst>
              <a:gd name="adj1" fmla="val 49444"/>
              <a:gd name="adj2" fmla="val 93976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如果某运动员项目报名后，又要修改其注册的号码、姓名、性别、组别或测试标识，必须先在本窗把该运动员的项目报名记录全部删除，才可在“注册窗口”进行修改。修改完后，再在本窗口重新报名。否则，系统禁止修改注册参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结束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初次使用报名盘，最好先试操作一次，掌握后，再正式使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院在报名完成后，携带完成好的报名盘到运动会秘书组办公室导出纸质版，并带回认真校对，确定无误之后加盖学院公章，将报名盘，纸质版，开幕式入场词上报运动会秘书组。上交数据后将不得做任何修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系统支持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4800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盘报名生成的报名盘在运行时要求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S ACCESS 2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或更高版本系统支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FFICE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包含的四个常用软件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好多用户机器上只装有前三个软件，请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FF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安装盘选择安装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否则，不能打开报名盘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995640" cy="3124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715000" y="304920"/>
            <a:ext cx="3276720" cy="1295280"/>
          </a:xfrm>
          <a:prstGeom prst="wedgeRectCallout">
            <a:avLst>
              <a:gd name="adj1" fmla="val -60949"/>
              <a:gd name="adj2" fmla="val 96814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运动会报名系统只能通过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microsoft office access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进行报名，且报名时不要改动报名盘的文件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4114800" cy="6072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62520" y="533520"/>
            <a:ext cx="4952880" cy="3200400"/>
          </a:xfrm>
          <a:prstGeom prst="wedgeRectCallout">
            <a:avLst>
              <a:gd name="adj1" fmla="val -89296"/>
              <a:gd name="adj2" fmla="val 41518"/>
            </a:avLst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注意：报名盘的系统文件名字不要改动，如果改动，系统将无法识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05320" y="4419720"/>
            <a:ext cx="4572000" cy="1828800"/>
          </a:xfrm>
          <a:prstGeom prst="wedgeRectCallout">
            <a:avLst>
              <a:gd name="adj1" fmla="val -43518"/>
              <a:gd name="adj2" fmla="val 68314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会后，请各学院派代表到编排组考取各学院报名盘系统文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录入操作说明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直接打开文件，选择“打开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打开文件后出现如图所示界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7162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随队人员注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点击“随队人员”进行注册：先点击“添加”，填写姓名，选择性别、职务（领队或教练员），再点击添加可填写第二人，随队人员注册完毕后请直接点击“退出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主窗口点击“随队人员注册”钮；                                                              ② 在新打开的窗口中，进行随队工作人员录入；                                                      ③ 利用“添加”和“删除”钮进行人员录入或删除； 利用下面四个“翻页”纽进行查找及修改。           ④ 录入完毕，点击“预览”钮，进行打印、校对。                                                    注：随队人员的姓名、性别和职务不得为空。 姓名的汉字之间不要加空格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362480" y="3362400"/>
            <a:ext cx="4781520" cy="3495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3605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876920" y="380880"/>
            <a:ext cx="3962160" cy="990720"/>
          </a:xfrm>
          <a:prstGeom prst="wedgeRectCallout">
            <a:avLst>
              <a:gd name="adj1" fmla="val -102203"/>
              <a:gd name="adj2" fmla="val 41828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第一步：在主窗口点击“随队人员注册”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1447920"/>
            <a:ext cx="3581280" cy="1676160"/>
          </a:xfrm>
          <a:prstGeom prst="wedgeRectCallout">
            <a:avLst>
              <a:gd name="adj1" fmla="val 32537"/>
              <a:gd name="adj2" fmla="val 131629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第二步：利用“添加”和“删除”钮进行人员录入或删除； 利用下面四个“翻页”纽进行查找及修改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105520"/>
            <a:ext cx="4191120" cy="1523880"/>
          </a:xfrm>
          <a:prstGeom prst="wedgeRectCallout">
            <a:avLst>
              <a:gd name="adj1" fmla="val 121967"/>
              <a:gd name="adj2" fmla="val -46976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第三步：录入完毕，点击“预览”钮，进行打印、校对。（录入完毕后请大家认真核对，上交数据后将不得做任何修改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3581280"/>
            <a:ext cx="3886200" cy="1447920"/>
          </a:xfrm>
          <a:prstGeom prst="wedgeRectCallout">
            <a:avLst>
              <a:gd name="adj1" fmla="val 91546"/>
              <a:gd name="adj2" fmla="val 14800"/>
            </a:avLst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注意：随队人员的姓名、性别和职务不得为空。 姓名的汉字之间不要加空格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运动员注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主窗口点击“运动员注册”钮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新打开的窗口中，进行运动员注册录入，一名运动员只需注册一条记录；操作方法：点击“添加”填写姓名，选择性别和组别，（其他后面的内容均不用填写），完毕后进行下一个运动员添加注册。（注意：选择运动员组别时一定要注意不要错选组别）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注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运动员号码、姓名、性别和组别栏目必须录入，不得为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运动员号码必须在号码范围之间，且保证每个运动员之间不得重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姓名的汉字之间不要加空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于接力等集体项目，要参加几个组别的接力项目，就用单位简称在姓名栏注册几个记录，但号码不得重复。（不管一个组别中有几个接力项目，一个组别只注册一个单位简称即可。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校对无误后，再开始“运动员项目报名”操作。因为项目报名操作一旦开始，运动员所注册的号码、姓名、性别、组别和测试标识就被锁死、不可修改了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3276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495680" y="0"/>
            <a:ext cx="4648320" cy="914400"/>
          </a:xfrm>
          <a:prstGeom prst="wedgeRectCallout">
            <a:avLst>
              <a:gd name="adj1" fmla="val -84837"/>
              <a:gd name="adj2" fmla="val 9878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第一步：在主窗口点击“运动员注册”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00280" y="3133800"/>
            <a:ext cx="6543720" cy="3724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696080" y="1143000"/>
            <a:ext cx="1447920" cy="2057400"/>
          </a:xfrm>
          <a:prstGeom prst="wedgeRectCallout">
            <a:avLst>
              <a:gd name="adj1" fmla="val -67435"/>
              <a:gd name="adj2" fmla="val 75462"/>
            </a:avLst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注意：运动员号码必须在号码范围之间，且保证每个运动员之间不得重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1143000"/>
            <a:ext cx="2514600" cy="2286000"/>
          </a:xfrm>
          <a:prstGeom prst="wedgeRectCallout">
            <a:avLst>
              <a:gd name="adj1" fmla="val -26578"/>
              <a:gd name="adj2" fmla="val 81041"/>
            </a:avLst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第二步：点击“添加”填写姓名，运动员号码、姓名、性别和组别栏目必须录入，不得为空。姓名的汉字之间不要加空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4191120"/>
            <a:ext cx="525780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743200"/>
            <a:ext cx="2514600" cy="2895480"/>
          </a:xfrm>
          <a:prstGeom prst="wedgeRectCallout">
            <a:avLst>
              <a:gd name="adj1" fmla="val 260856"/>
              <a:gd name="adj2" fmla="val 31962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第三步：校对无误后，再开始“运动员项目报名”操作。因为项目报名操作一旦开始，运动员所注册的号码、姓名、性别、组别和测试标识就被锁死、不可修改了。（录入完毕后请大家认真核对，上交数据后将不得做任何修改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715000"/>
            <a:ext cx="2514600" cy="1143000"/>
          </a:xfrm>
          <a:prstGeom prst="wedgeRectCallout">
            <a:avLst>
              <a:gd name="adj1" fmla="val 168685"/>
              <a:gd name="adj2" fmla="val -138333"/>
            </a:avLst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注意：各学院不要点测试点（体育学院除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接力项目录入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于接力等集体项目，要参加几个组别的接力项目，就用单位简称在姓名栏注册几个记录，但号码不得重复。（不管一个组别中有几个接力项目，一个组别只注册一个单位简称即可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08:29:17Z</dcterms:created>
  <dc:creator>q</dc:creator>
  <dc:description/>
  <dc:language>en-US</dc:language>
  <cp:lastModifiedBy>MC SYSTEM</cp:lastModifiedBy>
  <dcterms:modified xsi:type="dcterms:W3CDTF">2013-03-31T13:55:02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