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A9B-031D-48A5-B4F4-3E79B5C7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D1D-D8D9-4DE6-AD2A-8EE24DD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7F1-D778-41E1-8450-0F45EB17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02A-0A2D-477A-816F-29594509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62F-DB9D-4118-AC11-010AA078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CDB-E027-4E73-81C7-31B234A8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1A2-F5EE-468E-9A4F-7D060D9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EFC-CE5B-4A78-A3EF-4F2D5228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AC9-F1EA-4BE0-80C8-BB8E189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096-2E17-4FB0-BA2E-EB4612F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732-A933-4330-92CA-09E652D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EA3-05A6-4E8F-BFF7-250E564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E48-A5D0-4F6A-8AF1-6913DCF2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运动会报名系统介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报名系统3"/>
          <p:cNvPicPr/>
          <p:nvPr/>
        </p:nvPicPr>
        <p:blipFill>
          <a:blip r:embed="rId1"/>
          <a:stretch/>
        </p:blipFill>
        <p:spPr>
          <a:xfrm>
            <a:off x="0" y="2971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04920" y="380880"/>
            <a:ext cx="7924680" cy="1981440"/>
          </a:xfrm>
          <a:prstGeom prst="wedgeRectCallout">
            <a:avLst>
              <a:gd name="adj1" fmla="val -14402"/>
              <a:gd name="adj2" fmla="val 136699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运动员项目报名”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新打开的窗口中，进行运动员项目报名。其操作方法与随队人员注册基本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取消该运动员的参赛资格，必须先在本窗口把该运动员的项目报名记录全部删除，才可在“注册窗口”删除该运动员。否则，系统禁止删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界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项目报名"/>
          <p:cNvPicPr/>
          <p:nvPr/>
        </p:nvPicPr>
        <p:blipFill>
          <a:blip r:embed="rId1"/>
          <a:stretch/>
        </p:blipFill>
        <p:spPr>
          <a:xfrm>
            <a:off x="0" y="3524400"/>
            <a:ext cx="5905440" cy="33336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6019920" y="4038480"/>
            <a:ext cx="2666880" cy="2667240"/>
          </a:xfrm>
          <a:prstGeom prst="wedgeRectCallout">
            <a:avLst>
              <a:gd name="adj1" fmla="val -71250"/>
              <a:gd name="adj2" fmla="val -2762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一步：在主窗口点击“运动员项目报名”钮在新打开的窗口中，进行运动员项目报名。其操作方法与随队人员注册基本相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28600" y="914400"/>
            <a:ext cx="4876920" cy="2819520"/>
          </a:xfrm>
          <a:prstGeom prst="wedgeRectCallout">
            <a:avLst>
              <a:gd name="adj1" fmla="val 49444"/>
              <a:gd name="adj2" fmla="val 93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次使用报名盘，最好先试操作一次，掌握后，再正式使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院在报名完成后，携带完成好的报名盘，然后导出纸质版，并认真校对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无误之后加盖学院公章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报名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幕式入场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电子版纸质版）上报运动会秘书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交数据后将不得做任何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系统支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盘报名生成的报名盘在运行时要求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CCESS 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更高版本系统支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含的四个常用软件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好多用户机器上只装有前三个软件，请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盘选择安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否则，不能打开报名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office"/>
          <p:cNvPicPr/>
          <p:nvPr/>
        </p:nvPicPr>
        <p:blipFill>
          <a:blip r:embed="rId1"/>
          <a:stretch/>
        </p:blipFill>
        <p:spPr>
          <a:xfrm>
            <a:off x="4876920" y="1676520"/>
            <a:ext cx="399564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715000" y="304920"/>
            <a:ext cx="3276720" cy="1295280"/>
          </a:xfrm>
          <a:prstGeom prst="wedgeRectCallout">
            <a:avLst>
              <a:gd name="adj1" fmla="val -60949"/>
              <a:gd name="adj2" fmla="val 96814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运动会报名系统只能通过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crosoft office access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进行报名，且报名时不要改动报名盘的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报名盘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6072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3962520" y="533520"/>
            <a:ext cx="4952880" cy="3200400"/>
          </a:xfrm>
          <a:prstGeom prst="wedgeRectCallout">
            <a:avLst>
              <a:gd name="adj1" fmla="val -89296"/>
              <a:gd name="adj2" fmla="val 41518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：报名盘的系统文件名字不要改动，如果改动，系统将无法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5320" y="4419720"/>
            <a:ext cx="4572000" cy="1828800"/>
          </a:xfrm>
          <a:prstGeom prst="wedgeRectCallout">
            <a:avLst>
              <a:gd name="adj1" fmla="val -43518"/>
              <a:gd name="adj2" fmla="val 683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会后，请各学院到体育学院网站下载各学院报名盘系统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录入操作说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直接打开文件，选择“打开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开文件后出现如图所示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报名系统1"/>
          <p:cNvPicPr/>
          <p:nvPr/>
        </p:nvPicPr>
        <p:blipFill>
          <a:blip r:embed="rId1"/>
          <a:stretch/>
        </p:blipFill>
        <p:spPr>
          <a:xfrm>
            <a:off x="228600" y="23623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队人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随队人员”进行注册：先点击“添加”，填写姓名，选择性别、职务（领队或教练员），再点击添加可填写第二人，随队人员注册完毕后请直接点击“退出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随队人员注册”钮；                                                              ② 在新打开的窗口中，进行随队工作人员录入；                                                      ③ 利用“添加”和“删除”钮进行人员录入或删除； 利用下面四个“翻页”纽进行查找及修改。           ④ 录入完毕，点击“预览”钮，进行打印、校对。                                                    注：随队人员的姓名、性别和职务不得为空。 姓名的汉字之间不要加空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报名系统2"/>
          <p:cNvPicPr/>
          <p:nvPr/>
        </p:nvPicPr>
        <p:blipFill>
          <a:blip r:embed="rId1"/>
          <a:stretch/>
        </p:blipFill>
        <p:spPr>
          <a:xfrm>
            <a:off x="4362480" y="3362400"/>
            <a:ext cx="4781520" cy="349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报名系统1"/>
          <p:cNvPicPr/>
          <p:nvPr/>
        </p:nvPicPr>
        <p:blipFill>
          <a:blip r:embed="rId2"/>
          <a:stretch/>
        </p:blipFill>
        <p:spPr>
          <a:xfrm>
            <a:off x="0" y="0"/>
            <a:ext cx="4419720" cy="36050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4876920" y="380880"/>
            <a:ext cx="3962160" cy="990720"/>
          </a:xfrm>
          <a:prstGeom prst="wedgeRectCallout">
            <a:avLst>
              <a:gd name="adj1" fmla="val -102203"/>
              <a:gd name="adj2" fmla="val 4182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随队人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029200" y="1447920"/>
            <a:ext cx="3581280" cy="1676160"/>
          </a:xfrm>
          <a:prstGeom prst="wedgeRectCallout">
            <a:avLst>
              <a:gd name="adj1" fmla="val 32537"/>
              <a:gd name="adj2" fmla="val 13162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二步：利用“添加”和“删除”钮进行人员录入或删除； 利用下面四个“翻页”纽进行查找及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0" y="5105520"/>
            <a:ext cx="4191120" cy="1523880"/>
          </a:xfrm>
          <a:prstGeom prst="wedgeRectCallout">
            <a:avLst>
              <a:gd name="adj1" fmla="val 121967"/>
              <a:gd name="adj2" fmla="val -46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第三步：录入完毕，点击“预览”钮，进行打印、校对。（录入完毕后请大家认真核对，上交数据后将不得做任何修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28600" y="3581280"/>
            <a:ext cx="3886200" cy="1447920"/>
          </a:xfrm>
          <a:prstGeom prst="wedgeRectCallout">
            <a:avLst>
              <a:gd name="adj1" fmla="val 91546"/>
              <a:gd name="adj2" fmla="val 148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注意：随队人员的姓名、性别和职务不得为空。 姓名的汉字之间不要加空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主窗口点击“运动员注册”钮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新打开的窗口中，进行运动员注册录入，一名运动员只需注册一条记录；操作方法：点击“添加”填写姓名，选择性别和组别，（其他后面的内容均不用填写），完毕后进行下一个运动员添加注册。（注意：选择运动员组别时一定要注意不要错选组别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、姓名、性别和组别栏目必须录入，不得为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必须在号码范围之间，且保证每个运动员之间不得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姓名的汉字之间不要加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对无误后，再开始“运动员项目报名”操作。因为项目报名操作一旦开始，运动员所注册的号码、姓名、性别、组别和测试标识就被锁死、不可修改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报名系统1"/>
          <p:cNvPicPr/>
          <p:nvPr/>
        </p:nvPicPr>
        <p:blipFill>
          <a:blip r:embed="rId1"/>
          <a:stretch/>
        </p:blipFill>
        <p:spPr>
          <a:xfrm>
            <a:off x="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495680" y="0"/>
            <a:ext cx="4648320" cy="914400"/>
          </a:xfrm>
          <a:prstGeom prst="wedgeRectCallout">
            <a:avLst>
              <a:gd name="adj1" fmla="val -84837"/>
              <a:gd name="adj2" fmla="val 987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运动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报名系统3"/>
          <p:cNvPicPr/>
          <p:nvPr/>
        </p:nvPicPr>
        <p:blipFill>
          <a:blip r:embed="rId2"/>
          <a:stretch/>
        </p:blipFill>
        <p:spPr>
          <a:xfrm>
            <a:off x="2600280" y="3133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696080" y="1143000"/>
            <a:ext cx="1447920" cy="2057400"/>
          </a:xfrm>
          <a:prstGeom prst="wedgeRectCallout">
            <a:avLst>
              <a:gd name="adj1" fmla="val -67435"/>
              <a:gd name="adj2" fmla="val 75462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注意：运动员号码必须在号码范围之间，且保证每个运动员之间不得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952880" y="1143000"/>
            <a:ext cx="2514600" cy="2286000"/>
          </a:xfrm>
          <a:prstGeom prst="wedgeRectCallout">
            <a:avLst>
              <a:gd name="adj1" fmla="val -26578"/>
              <a:gd name="adj2" fmla="val 81041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第二步：点击“添加”填写姓名，运动员号码、姓名、性别和组别栏目必须录入，不得为空。姓名的汉字之间不要加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4191120"/>
            <a:ext cx="5257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0" y="2743200"/>
            <a:ext cx="2514600" cy="2895480"/>
          </a:xfrm>
          <a:prstGeom prst="wedgeRectCallout">
            <a:avLst>
              <a:gd name="adj1" fmla="val 260856"/>
              <a:gd name="adj2" fmla="val 31962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步：校对无误后，再开始“运动员项目报名”操作。因为项目报名操作一旦开始，运动员所注册的号码、姓名、性别、组别和测试标识就被锁死、不可修改了。（录入完毕后请大家认真核对，上交数据后将不得做任何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0" y="5715000"/>
            <a:ext cx="2514600" cy="1143000"/>
          </a:xfrm>
          <a:prstGeom prst="wedgeRectCallout">
            <a:avLst>
              <a:gd name="adj1" fmla="val 168685"/>
              <a:gd name="adj2" fmla="val -138333"/>
            </a:avLst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注意：各学院不要点测试点（体育学院除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力项目录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姓名栏注册几个记录，但号码不得重复。（不管一个组别中有几个接力项目，一个组别只注册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简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可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29:17Z</dcterms:created>
  <dc:creator>q</dc:creator>
  <dc:description/>
  <dc:language>en-US</dc:language>
  <cp:lastModifiedBy>微软用户</cp:lastModifiedBy>
  <dcterms:modified xsi:type="dcterms:W3CDTF">2016-03-28T05:05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